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8.jpeg" ContentType="image/jpeg"/>
  <Override PartName="/ppt/media/image20.png" ContentType="image/png"/>
  <Override PartName="/ppt/media/image7.jpeg" ContentType="image/jpeg"/>
  <Override PartName="/ppt/media/image13.png" ContentType="image/png"/>
  <Override PartName="/ppt/media/image18.png" ContentType="image/png"/>
  <Override PartName="/ppt/media/image6.jpeg" ContentType="image/jpeg"/>
  <Override PartName="/ppt/media/image29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9.jpeg" ContentType="image/jpeg"/>
  <Override PartName="/ppt/media/image30.jpeg" ContentType="image/jpeg"/>
  <Override PartName="/ppt/media/image3.png" ContentType="image/png"/>
  <Override PartName="/ppt/media/image2.wmf" ContentType="image/x-wmf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25.wmf" ContentType="image/x-wmf"/>
  <Override PartName="/ppt/media/image15.jpeg" ContentType="image/jpeg"/>
  <Override PartName="/ppt/media/image26.wmf" ContentType="image/x-wmf"/>
  <Override PartName="/ppt/media/image16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8EC2-275D-402D-9C2B-26EA26C602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042C-2B8F-40DA-8699-50C6C312E8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100F-DC27-4050-B731-6DD26AD1EA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C2C3-07B6-4E35-9EAD-26BCCEE17E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10972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4428720"/>
            <a:ext cx="10972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232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19640" y="243828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29800" y="243828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442872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19640" y="442872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29800" y="442872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07960" y="1447560"/>
            <a:ext cx="10972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232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4428720"/>
            <a:ext cx="10972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tma_comp copy"/>
          <p:cNvPicPr/>
          <p:nvPr/>
        </p:nvPicPr>
        <p:blipFill>
          <a:blip r:embed="rId2"/>
          <a:stretch/>
        </p:blipFill>
        <p:spPr>
          <a:xfrm>
            <a:off x="0" y="0"/>
            <a:ext cx="12249000" cy="1425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1" descr=""/>
          <p:cNvPicPr/>
          <p:nvPr/>
        </p:nvPicPr>
        <p:blipFill>
          <a:blip r:embed="rId1"/>
          <a:stretch/>
        </p:blipFill>
        <p:spPr>
          <a:xfrm>
            <a:off x="171360" y="5753160"/>
            <a:ext cx="3762360" cy="1039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2"/>
          <a:stretch/>
        </p:blipFill>
        <p:spPr>
          <a:xfrm>
            <a:off x="7458120" y="5554800"/>
            <a:ext cx="1736640" cy="1303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3"/>
          <a:stretch/>
        </p:blipFill>
        <p:spPr>
          <a:xfrm>
            <a:off x="10093320" y="5700600"/>
            <a:ext cx="1143000" cy="96048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878040" y="2703600"/>
            <a:ext cx="971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Sustainable Intensification of Maize-Legume Systems for the Eastern Province of Zambia-Africa RISING (SIMLEZA-AR) Project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4"/>
          <a:stretch/>
        </p:blipFill>
        <p:spPr>
          <a:xfrm>
            <a:off x="5218200" y="5867280"/>
            <a:ext cx="103824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hart 3" descr=""/>
          <p:cNvPicPr/>
          <p:nvPr/>
        </p:nvPicPr>
        <p:blipFill>
          <a:blip r:embed="rId1"/>
          <a:stretch/>
        </p:blipFill>
        <p:spPr>
          <a:xfrm>
            <a:off x="433440" y="695160"/>
            <a:ext cx="10917360" cy="585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1480" y="74880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800" spc="-1" strike="noStrike">
                <a:solidFill>
                  <a:srgbClr val="c00000"/>
                </a:solidFill>
                <a:latin typeface="Arial"/>
              </a:rPr>
              <a:t>Maize Productivity under different CA and CV manual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Content Placeholder 3" descr=""/>
          <p:cNvPicPr/>
          <p:nvPr/>
        </p:nvPicPr>
        <p:blipFill>
          <a:blip r:embed="rId1"/>
          <a:stretch/>
        </p:blipFill>
        <p:spPr>
          <a:xfrm>
            <a:off x="500040" y="4078440"/>
            <a:ext cx="4449960" cy="2438280"/>
          </a:xfrm>
          <a:prstGeom prst="rect">
            <a:avLst/>
          </a:prstGeom>
          <a:ln w="0">
            <a:noFill/>
          </a:ln>
        </p:spPr>
      </p:pic>
      <p:pic>
        <p:nvPicPr>
          <p:cNvPr id="82" name="Chart 4" descr=""/>
          <p:cNvPicPr/>
          <p:nvPr/>
        </p:nvPicPr>
        <p:blipFill>
          <a:blip r:embed="rId2"/>
          <a:stretch/>
        </p:blipFill>
        <p:spPr>
          <a:xfrm>
            <a:off x="5986440" y="1432080"/>
            <a:ext cx="4572000" cy="2401560"/>
          </a:xfrm>
          <a:prstGeom prst="rect">
            <a:avLst/>
          </a:prstGeom>
          <a:ln w="0">
            <a:noFill/>
          </a:ln>
        </p:spPr>
      </p:pic>
      <p:pic>
        <p:nvPicPr>
          <p:cNvPr id="83" name="Chart 5" descr=""/>
          <p:cNvPicPr/>
          <p:nvPr/>
        </p:nvPicPr>
        <p:blipFill>
          <a:blip r:embed="rId3"/>
          <a:stretch/>
        </p:blipFill>
        <p:spPr>
          <a:xfrm>
            <a:off x="195120" y="1432080"/>
            <a:ext cx="4681800" cy="2725560"/>
          </a:xfrm>
          <a:prstGeom prst="rect">
            <a:avLst/>
          </a:prstGeom>
          <a:ln w="0">
            <a:noFill/>
          </a:ln>
        </p:spPr>
      </p:pic>
      <p:pic>
        <p:nvPicPr>
          <p:cNvPr id="84" name="Chart 6" descr=""/>
          <p:cNvPicPr/>
          <p:nvPr/>
        </p:nvPicPr>
        <p:blipFill>
          <a:blip r:embed="rId4"/>
          <a:stretch/>
        </p:blipFill>
        <p:spPr>
          <a:xfrm>
            <a:off x="5986440" y="3919680"/>
            <a:ext cx="4718160" cy="251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60040" y="801360"/>
            <a:ext cx="11009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ze productivity under different tillage practices (Mechanise syste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360360" y="1487520"/>
            <a:ext cx="3814920" cy="2835360"/>
          </a:xfrm>
          <a:prstGeom prst="rect">
            <a:avLst/>
          </a:prstGeom>
          <a:ln w="0">
            <a:noFill/>
          </a:ln>
        </p:spPr>
      </p:pic>
      <p:pic>
        <p:nvPicPr>
          <p:cNvPr id="87" name="Chart 4" descr=""/>
          <p:cNvPicPr/>
          <p:nvPr/>
        </p:nvPicPr>
        <p:blipFill>
          <a:blip r:embed="rId2"/>
          <a:stretch/>
        </p:blipFill>
        <p:spPr>
          <a:xfrm>
            <a:off x="6443640" y="1414440"/>
            <a:ext cx="4572000" cy="2743200"/>
          </a:xfrm>
          <a:prstGeom prst="rect">
            <a:avLst/>
          </a:prstGeom>
          <a:ln w="0">
            <a:noFill/>
          </a:ln>
        </p:spPr>
      </p:pic>
      <p:pic>
        <p:nvPicPr>
          <p:cNvPr id="88" name="Chart 5" descr=""/>
          <p:cNvPicPr/>
          <p:nvPr/>
        </p:nvPicPr>
        <p:blipFill>
          <a:blip r:embed="rId3"/>
          <a:stretch/>
        </p:blipFill>
        <p:spPr>
          <a:xfrm>
            <a:off x="3005280" y="4157640"/>
            <a:ext cx="4273560" cy="25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5400" y="6132240"/>
            <a:ext cx="1148724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umulative Distributions of Soybean Yields (2012-2015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393920" y="808200"/>
            <a:ext cx="9293040" cy="553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5987880"/>
            <a:ext cx="1181592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umulative Distributions of Maize-Soybean Rotation Benefits (2012-201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878040" y="303120"/>
            <a:ext cx="9467640" cy="581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192120" cy="763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enefit Cost Ratios (Maize-Soybean Rotation)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Chart 5"/>
          <p:cNvGraphicFramePr/>
          <p:nvPr/>
        </p:nvGraphicFramePr>
        <p:xfrm>
          <a:off x="-50760" y="712800"/>
          <a:ext cx="12293640" cy="55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Char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712800"/>
                    <a:ext cx="12293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Oval 3"/>
          <p:cNvSpPr/>
          <p:nvPr/>
        </p:nvSpPr>
        <p:spPr>
          <a:xfrm>
            <a:off x="4376880" y="984240"/>
            <a:ext cx="1547640" cy="1506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800" spc="-1" strike="noStrike">
                <a:solidFill>
                  <a:srgbClr val="000000"/>
                </a:solidFill>
                <a:latin typeface="Arial"/>
              </a:rPr>
              <a:t>Less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 technology  benefits are context specific (state conting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 technology benefits are most apparent in down-side risk mitiga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itle 1"/>
          <p:cNvSpPr/>
          <p:nvPr/>
        </p:nvSpPr>
        <p:spPr>
          <a:xfrm>
            <a:off x="519120" y="1434960"/>
            <a:ext cx="1167300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Adaption of SIMLEZA-AR technologies to farmer circum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519120" y="3227400"/>
            <a:ext cx="11080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ly weed management – Herbicide use, maintaining recommended mulching  levels, intercro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ety choice ( Maize &amp; legume)  according to farmer circumstance,  seasonal quality and agro-ecological sea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pting  CA principles  to farmer circum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oculation  &amp; rotation    of maize  and legumes to improve y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800" spc="-1" strike="noStrike">
                <a:solidFill>
                  <a:srgbClr val="000000"/>
                </a:solidFill>
                <a:latin typeface="Arial"/>
              </a:rPr>
              <a:t>Environmental Impa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39960" y="2387160"/>
            <a:ext cx="109728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soil &amp; water use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nutrient recycl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soil health</a:t>
            </a:r>
            <a:r>
              <a:rPr b="0" lang="en-ZW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bon sequencing</a:t>
            </a:r>
            <a:r>
              <a:rPr b="0" lang="en-ZW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tion of aflatoxin levels – through use of mulch </a:t>
            </a:r>
            <a:r>
              <a:rPr b="0" lang="en-ZW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ative impact of herbicides  on the ecosystem </a:t>
            </a:r>
            <a:r>
              <a:rPr b="0" lang="en-ZW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tion of downside  risk </a:t>
            </a:r>
            <a:r>
              <a:rPr b="0" lang="en-ZW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Mature Technolog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maize &amp; legume varieties  ( 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ed CA – Animal drawn Rip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al CA -  Dibble st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ybean ino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ze-legume rotations/ intercro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d management strategies– herbicides and  soil c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le 1"/>
          <p:cNvSpPr/>
          <p:nvPr/>
        </p:nvSpPr>
        <p:spPr>
          <a:xfrm>
            <a:off x="776160" y="1401840"/>
            <a:ext cx="10972800" cy="42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57200" indent="-45720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Enhancing adoption &amp; adaptation of  GAPs (maize/legume cropp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Soybean processing and product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Maize and legume variety diversification and enhancing seed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73800" y="655200"/>
            <a:ext cx="503712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Print &amp; Electronic med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Content Placeholder 2" descr=""/>
          <p:cNvPicPr/>
          <p:nvPr/>
        </p:nvPicPr>
        <p:blipFill>
          <a:blip r:embed="rId1"/>
          <a:stretch/>
        </p:blipFill>
        <p:spPr>
          <a:xfrm>
            <a:off x="7378560" y="1515960"/>
            <a:ext cx="4691160" cy="35179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3"/>
          <p:cNvSpPr/>
          <p:nvPr/>
        </p:nvSpPr>
        <p:spPr>
          <a:xfrm>
            <a:off x="7237440" y="5011560"/>
            <a:ext cx="50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, TV &amp; Newspaper journalists intervie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4722840" y="1238400"/>
            <a:ext cx="2655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s of Zambia &amp; The Post newspapers (article published on 7 February 20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o Breeze from Chip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Television of Zam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2"/>
          <a:stretch/>
        </p:blipFill>
        <p:spPr>
          <a:xfrm>
            <a:off x="41400" y="1387440"/>
            <a:ext cx="4721040" cy="35416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7"/>
          <p:cNvSpPr/>
          <p:nvPr/>
        </p:nvSpPr>
        <p:spPr>
          <a:xfrm>
            <a:off x="-47520" y="4881600"/>
            <a:ext cx="50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, TV &amp; Newspaper journalists intervie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ct Agricultural Co-ordin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-47520" y="5934240"/>
            <a:ext cx="105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400" spc="-1" strike="noStrike">
                <a:solidFill>
                  <a:srgbClr val="000000"/>
                </a:solidFill>
                <a:latin typeface="Arial"/>
                <a:ea typeface="Arial"/>
              </a:rPr>
              <a:t>Kuphindula ndi TLC radio program with Radio Bree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7960" y="1079640"/>
            <a:ext cx="109728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mbria"/>
              </a:rPr>
              <a:t>Scaling out cont.…...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07960" y="1955880"/>
            <a:ext cx="1097280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 partnerships – with public extension  system and NG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ning of extension agents, healthy workers, technicians &amp; lead far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Msc &amp; 1 PhD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s on training on use of mechanised CA equipment (rippers, direct seeders, jab plant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fe use of herbic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publications   in peer reviewed journ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ong extension services to improve adoption &amp; promote sustainable intensification practices  required (maize-legume intercropping,  maize-legume rotation, inoculation of legume seeds etc)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rther understanding of adoption &amp; dis-adoption  dynamics of sustainable intensification practices/technolo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eed for alternative  cover crops   in area where livestock is an important component of livelihood strategies (reduce crop-livestock compet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time and budget allocation on documentation of research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46240" y="3281040"/>
            <a:ext cx="117093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iko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Good Agricultural Practices (GAP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000" spc="-1" strike="noStrike">
                <a:solidFill>
                  <a:srgbClr val="000000"/>
                </a:solidFill>
                <a:latin typeface="Arial"/>
              </a:rPr>
              <a:t>Timely planting &amp; wee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000" spc="-1" strike="noStrike">
                <a:solidFill>
                  <a:srgbClr val="000000"/>
                </a:solidFill>
                <a:latin typeface="Arial"/>
              </a:rPr>
              <a:t>Inoculation of legumes ( soybe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000" spc="-1" strike="noStrike">
                <a:solidFill>
                  <a:srgbClr val="000000"/>
                </a:solidFill>
                <a:latin typeface="Arial"/>
              </a:rPr>
              <a:t>Crop rotation/ associations (intercropp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000" spc="-1" strike="noStrike">
                <a:solidFill>
                  <a:srgbClr val="000000"/>
                </a:solidFill>
                <a:latin typeface="Arial"/>
              </a:rPr>
              <a:t>Soil cover ( mulch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000" spc="-1" strike="noStrike">
                <a:solidFill>
                  <a:srgbClr val="000000"/>
                </a:solidFill>
                <a:latin typeface="Arial"/>
              </a:rPr>
              <a:t>Application of recommended fertiliser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000" spc="-1" strike="noStrike">
                <a:solidFill>
                  <a:srgbClr val="000000"/>
                </a:solidFill>
                <a:latin typeface="Arial"/>
              </a:rPr>
              <a:t>Pest and diseas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4600" y="1009440"/>
            <a:ext cx="851364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Field visits in February 201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6773760" y="6000840"/>
            <a:ext cx="498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 site discussions with host farmers &amp; neighbors in each c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6678720" y="2265480"/>
            <a:ext cx="4979880" cy="3735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534960" y="2265480"/>
            <a:ext cx="4622760" cy="3467160"/>
          </a:xfrm>
          <a:prstGeom prst="rect">
            <a:avLst/>
          </a:prstGeom>
          <a:ln w="0">
            <a:noFill/>
          </a:ln>
        </p:spPr>
      </p:pic>
      <p:sp>
        <p:nvSpPr>
          <p:cNvPr id="58" name="TextBox 7"/>
          <p:cNvSpPr/>
          <p:nvPr/>
        </p:nvSpPr>
        <p:spPr>
          <a:xfrm>
            <a:off x="534960" y="5732640"/>
            <a:ext cx="497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 site discussions with host farmers &amp; neighbors in each c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3"/>
          <a:stretch/>
        </p:blipFill>
        <p:spPr>
          <a:xfrm>
            <a:off x="4334040" y="2784600"/>
            <a:ext cx="3170160" cy="23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35320" y="1318680"/>
            <a:ext cx="520056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Baby CA demonst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122400" y="5049720"/>
            <a:ext cx="357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 drought tolerant maize varieties under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95400" y="2190600"/>
            <a:ext cx="3849480" cy="2886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2"/>
          <a:stretch/>
        </p:blipFill>
        <p:spPr>
          <a:xfrm>
            <a:off x="4060800" y="2190600"/>
            <a:ext cx="3848040" cy="2886120"/>
          </a:xfrm>
          <a:prstGeom prst="rect">
            <a:avLst/>
          </a:prstGeom>
          <a:ln w="0">
            <a:noFill/>
          </a:ln>
        </p:spPr>
      </p:pic>
      <p:sp>
        <p:nvSpPr>
          <p:cNvPr id="64" name="TextBox 9"/>
          <p:cNvSpPr/>
          <p:nvPr/>
        </p:nvSpPr>
        <p:spPr>
          <a:xfrm>
            <a:off x="4019400" y="5076720"/>
            <a:ext cx="38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ze &amp; cowpea rotation under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3"/>
          <a:stretch/>
        </p:blipFill>
        <p:spPr>
          <a:xfrm>
            <a:off x="8097840" y="2190600"/>
            <a:ext cx="3848040" cy="2886120"/>
          </a:xfrm>
          <a:prstGeom prst="rect">
            <a:avLst/>
          </a:prstGeom>
          <a:ln w="0">
            <a:noFill/>
          </a:ln>
        </p:spPr>
      </p:pic>
      <p:sp>
        <p:nvSpPr>
          <p:cNvPr id="66" name="TextBox 11"/>
          <p:cNvSpPr/>
          <p:nvPr/>
        </p:nvSpPr>
        <p:spPr>
          <a:xfrm>
            <a:off x="8097840" y="5049720"/>
            <a:ext cx="384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ed control using herbicides in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4189320" y="1187280"/>
            <a:ext cx="7961400" cy="5349960"/>
          </a:xfrm>
          <a:prstGeom prst="rect">
            <a:avLst/>
          </a:prstGeom>
          <a:ln w="25560">
            <a:solidFill>
              <a:srgbClr val="bbe0e3"/>
            </a:solidFill>
            <a:miter/>
          </a:ln>
        </p:spPr>
      </p:pic>
      <p:sp>
        <p:nvSpPr>
          <p:cNvPr id="68" name="TextBox 4"/>
          <p:cNvSpPr/>
          <p:nvPr/>
        </p:nvSpPr>
        <p:spPr>
          <a:xfrm>
            <a:off x="0" y="1405080"/>
            <a:ext cx="3860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27 farmers hosted ‘’Baby CA’’ demonstrations across 7 c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 farmers hosted ‘’Mother CA’’ trials across 7 c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4196160" y="6488280"/>
            <a:ext cx="76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Baby CA demonstrations in each agricultural camp (2014/15 seas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2240" y="1462320"/>
            <a:ext cx="10972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91880" y="2333520"/>
            <a:ext cx="1165356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Chart 3" descr=""/>
          <p:cNvPicPr/>
          <p:nvPr/>
        </p:nvPicPr>
        <p:blipFill>
          <a:blip r:embed="rId1"/>
          <a:stretch/>
        </p:blipFill>
        <p:spPr>
          <a:xfrm>
            <a:off x="1060560" y="353880"/>
            <a:ext cx="9412200" cy="607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10972800" cy="3810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609480" y="798480"/>
            <a:ext cx="8521920" cy="58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10972800" cy="3810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609480" y="1209600"/>
            <a:ext cx="8952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5T12:39:41Z</dcterms:created>
  <dc:creator>Setegn Gebeyehu</dc:creator>
  <dc:description/>
  <dc:language>en-US</dc:language>
  <cp:lastModifiedBy>Mutenje M</cp:lastModifiedBy>
  <dcterms:modified xsi:type="dcterms:W3CDTF">2015-07-15T09:00:30Z</dcterms:modified>
  <cp:revision>127</cp:revision>
  <dc:subject/>
  <dc:title>PowerPoint Presentation</dc:title>
</cp:coreProperties>
</file>